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CC5-E2BF-4709-8B23-69B6295F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788-A54E-45C1-A659-AE2185C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473-F9C1-466E-80AD-102B1048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0D7-B2A5-421D-BA4F-8E5E1C5A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F6E-945D-40D1-922C-87606ED9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1AC-AD0D-43C8-8E63-5E25CAF3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9C6-2F11-47EF-87B2-329EFD50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B1E-7833-4F1B-9F43-1B1906A6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E5F-8F7B-4AB9-AB7F-56771BB0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C8D-2FFB-468B-B603-CB0DAA07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2FA-1DA6-4E0F-9B4E-41B15F7E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F14-733E-4DF1-971C-2A8FC634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6145-4A06-4A56-B9C9-003262707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) To revise the daily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) to watch a video with someone explaining the problems with his daily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) to learn how to use the simple future to describe a future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1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y vas va es 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y vas 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 vais van, señ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 vais v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 vais van, señ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 vais van, oh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mos vais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50028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o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7664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5300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06920" y="350028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a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6920" y="400536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a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6920" y="458136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v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06920" y="5157720"/>
            <a:ext cx="453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268280"/>
          <a:ext cx="7080120" cy="5084640"/>
        </p:xfrm>
        <a:graphic>
          <a:graphicData uri="http://schemas.openxmlformats.org/drawingml/2006/table">
            <a:tbl>
              <a:tblPr/>
              <a:tblGrid>
                <a:gridCol w="2360520"/>
                <a:gridCol w="2358720"/>
                <a:gridCol w="2360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prono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ive prono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/ 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/ e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e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826920" y="189000"/>
            <a:ext cx="7848720" cy="8254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partner, decide which subject pronoun should go with which reflexive pro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33360"/>
            <a:ext cx="4859280" cy="375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eat break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s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go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go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have a s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going to have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going to watch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going to have break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get 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333360"/>
            <a:ext cx="3960720" cy="4117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comer el desay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afeita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volver a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s a ir al col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levanta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ducha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mos a comer l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n a ver la 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 a comer el desay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y a vesti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1:44:53Z</dcterms:created>
  <dc:creator>Owner1</dc:creator>
  <dc:description/>
  <dc:language>en-US</dc:language>
  <cp:lastModifiedBy>Owner1</cp:lastModifiedBy>
  <dcterms:modified xsi:type="dcterms:W3CDTF">2008-09-29T08:41:30Z</dcterms:modified>
  <cp:revision>3</cp:revision>
  <dc:subject/>
  <dc:title>Slide 1</dc:title>
</cp:coreProperties>
</file>